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62B2-478B-44A5-9D70-989894A05A6A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8303-BDDC-4CFE-8891-312A264048A5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44ABB-2D04-4B64-99E5-D8DD9296C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43DA5-11B2-46FA-99EF-0DFC07337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EE4D6-7FA0-44F3-86F1-4249C6C2C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28A4F-8E11-42D8-8BBC-3706906267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35108-6EE1-4AC0-AD9B-F70B82B630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1EB54-307A-4759-BAB0-23DA13B03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E68BA-F1C1-40F3-B4EC-A01557F83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B01CA-ABBA-458D-8A65-36673533C3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139EA-5FEA-4AA9-BD31-56BB8E2E9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F4C71-A04A-4776-9C6B-581E04881F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99306-3CA4-49A2-822B-0764F09E43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8E60B-6A6B-4076-96DF-964C2ED04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6D6D2DD0-3123-4781-AF85-9FDDC946D45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2E9354EF-B68C-4F29-B8B8-831E098E543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57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7019A71C-8737-445E-9479-9C9A8497430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il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ilment for val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igh standard imposed on common carriers and innkeepers to care for goods of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tes limit liability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ight of lien (keep possession) if bailee not p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E770B546-7B80-4D68-932C-367B67E274B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al Prope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al Property - Land and things permanently attached t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ersonal property can become part of real property when affixed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reasonable use of space above 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right to use of land be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es not include mineral/oil and gas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220AB615-43DB-4CBE-B0D1-E4B02DB8AE1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ee Simple E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ame rights as ownership; inde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overnment always has the power to control, restrict, or ex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fe estate - Gives ownership rights to beneficiary, but only for the length of his/her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older of life estate can’t damage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eirs have remainder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610FD95B-ED3B-4522-BA8E-9F5CB30658E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ee Simple Estat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6104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20302A6A-E725-425F-AC09-B8D1F414B77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asehold E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asehold Estate - Exclusive use and possession of land for a specifie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also be period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40532F71-4F38-4601-B55D-E190C311D4B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sser Interests in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ement – gives another permanent right to use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of way – gives right to cross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rictive covenant – restricts how property can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negative to bind all future ow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607CF521-C14D-449E-9408-28D7D14E4F6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sser Interests in Land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uilding scheme – restrictive covenants that benefit all properties in a development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cense – contractual right to use land, but gives no interest in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rofit a prendr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– right to remove material from land (e.g., tre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A87F4F69-2C1E-4E7C-8BEB-B399FD5E303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wning Property Toge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Joint te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Joint ownership of whole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one dies, survivor gets that person’s po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nancy in com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ach party has an undivide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 right of survivo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ach may sell, mortgage, or lease their po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F1B375C1-41A3-42E9-8DA2-5912DD70BF4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wning Property Together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wer rights and homestead r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aditionally protected spouse in case of marriage break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utes now give spouse claim to family assets even when not registered on the 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8DB0F9B2-7862-4F97-A8D7-1B856BE15D9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wning Property Together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domini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hare ownership of common property; fee simple interest in individual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ules of use set by condominium (or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strata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)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l owners pay fees and special levies to maintain common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74AB143B-1354-43C1-8C69-874980E75A3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guish between real and personal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rights and responsibilities associated with possession of personal property, keeping in mind owners, finders, and bail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gnize the rights of real property ow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the process for transferring title to land in various jurisd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nature and role of mortg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802311FD-4305-4C6F-B459-E367B5A587F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wning Property Together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oper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embers own whole property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ach share entitles occupancy of a specific a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DF935D41-A5A9-4A62-8335-016363D133C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ption to Purc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mitment to hold an offer to sell open for a specifie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option not exercised, no further oblig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ten used by developers and spec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038CA50A-5874-4F4E-A47D-260B069593F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 of Regi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nd registr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nd Registry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pository of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search to determine ow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nd Titles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Guarantees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mistake or fraud, insurance fund will compens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AC7EB540-56E4-4282-B10F-685CD105185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nsferring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greement of purchase and s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rm submitted to land reg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riminal offence to destroy, cancel, conceal, or obliterate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dverse possession will allow for title transfer in some juris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ight to cross land may also be acquired by prescription in some provi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5BF25E97-15CB-4D6A-8383-826E2B28726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ortg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ethod of financing purchase of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ssession of land remains with purchaser, but title is transferred to creditor as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ight to redeem title by payment of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Known as equity of rede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there is a default, creditor forecl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BEE801A2-65C5-42F7-803D-97B373E19A4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ortgag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reclosure is a two-stage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, a time limit is set for exercising the equity of rede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uring this time, the debtor attempts to re-finance or sell th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not paid,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nal order of foreclosure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urt Order for sale by mortgag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F5E03CF8-4B91-43CE-BFF0-79F09C4BEA9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ortgag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econd or equitable mortg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quity of redemption used to secure more debt (rather than legal title to proper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risk; therefore a higher interest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rt gives second mortgagee right to try to sell property during redemption peri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pay off all previous mortg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btor may have to pay any short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5C421B21-1288-495F-B3D4-5A0EC060883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asehold E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ight to exclusive possession and use for specifie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eriodic L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se for specified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utomatically renews for same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46A572F9-8351-44E8-9374-C2B22E35814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asehold Estat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00"/>
                </a:solidFill>
                <a:latin typeface="Times New Roman"/>
              </a:rPr>
              <a:t>Any lease longer than three years must be in writing to be enforce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00"/>
                </a:solidFill>
                <a:latin typeface="Times New Roman"/>
              </a:rPr>
              <a:t>Considered an interest in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00"/>
                </a:solidFill>
                <a:latin typeface="Times New Roman"/>
              </a:rPr>
              <a:t>In some jurisdictions, frustration applies to leases by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B7174339-8787-40BC-BD26-B0784542E74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mmercial Tena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greement determines obligations in commercial l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Vacant pos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Quiet enj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bligations to make re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rmination of 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B14FE76F-CF75-47F4-A6C5-58CFF0D2424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rights and responsibilities of landlords and ten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the implications and regulations of environmental protection for property ow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e role of insurance in risk avoid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838BC31B-F653-40F9-AF02-FA9438C4A4F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mmercial Tenanc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bligations of ten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y 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e property only as agr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ply with terms of lease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0B92586D-A342-4AF0-8287-8F53CEB22DB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mmercial Tenanc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tenant fails to pay rent, landlord has op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rminate tenancy (forfeiture); tenant may ask court to order reli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straint involves seizing tenant’s goods for rent owed; tenancy contin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tenant abandons, can sue for rent for rest of 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F1267FD5-1B60-48C3-9EEA-2F91BEC8746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mmercial Tenanc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ndlord has no duty to mitigate in case of aband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uty to repair will be specified in 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ase also specifies rights to renew, sublet,  or as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nant may take fixtures used for their business when they go (as long as property is not damag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1BE6F976-DF39-4EEA-A9E1-3D20A2DF11C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sidential Tena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gislation has greatly modified common law and varies by juris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tandard form leases with written copy to ten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pairs and health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ntrance to prem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signment and subl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pos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tice of rent increases and 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65C2AF10-4A65-4D7D-A100-0CDEAC99479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sidential Tenanc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ndl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maintai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not seize tenant’s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mitigate l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idential tribunals hear compl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rustration applies to residential tena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E9E4F7D3-E662-4873-A4D3-A9356442876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on of the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parian rights – People living on river or stream have right to continued quality and quantity of water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overridden by stat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rts of nuisance, trespas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ffective in protecting environ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F4BFFA14-D405-41F9-947B-5BB61D803BC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on of the Environ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deral Legi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sheries Act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of pollutants in fish-bearing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adian Environmental Protection A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created government department responsible for preventing pollution and protecting environment and human health while contributing to sustainable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3A1FA7E3-9E14-48BE-8D60-F879EB19185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on of the Environ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nadian Environmental Protection 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enforcement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require pollution prevention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ors, managers, and agents of businesses can be held liable for violations (unless due diligence show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for civil reme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1874738F-0D90-4798-8FD7-FE06EB45F7D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on of the Environ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nadian Environmental Assessment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s controlled by federal government must go through environmental assess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ncial legi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rovinces and territories have legislation similar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adian Environmental Protection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ers environmental concerns within provincial juris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3341C4BA-A28C-4758-A388-78497725BE7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on of the Environ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lap of regulations at federal, provincial, and municipal levels poses problems for business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87FF7C7E-7DA5-4311-A1F1-3D480538DE1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ypes of Prope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y refers to a person’s rights to something (not to the thing itsel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 property - land and anything permanently affixed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proper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gible, movable items – chattels or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angible proper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hoses in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tellectual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FAFDE48A-60D8-4030-A401-20055BD1815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urchase insurance by paying premi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read risk as only a few will need compen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urance companies may reinsure potential losses through larger 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licies are usually standard form, but may have riders and endors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B68AF852-9639-476E-B1F4-A93E9D00E60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ured must have insurable interest in subject of policy to recover for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ured only compensated for actual loss (based on coverage purchas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-insurance clauses usually require 80% of value ins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 insurance equal to value of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5AF9DF8B-8A07-4660-AAF9-D8845224069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ductible – Amount insured must pay toward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alvage rights – Insurer has right to salvage what it can from the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brogation rights – Once insurer pays, insurer assumes insured’s right to 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9123FE9A-5D99-45F4-AD05-52F2356DC9B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perty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siness interruption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iability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ife insurance (key personnel in busi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ealth and disability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prehensive insurance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uty of good faith for all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fully disclose all relevan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54AD64FA-F556-45EF-AAA5-660B68A9034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nds are similar to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delity b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er buys bond to cover wrongful conduct by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rety b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uarantees performance of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D50C3C89-C1E4-42BA-A1C9-0E36D9A9EC0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Who Has the Right to the Goo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 gives right to goods over all others except someone with prior cla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s depend largely on how goods were ac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s can depend on where object is f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 who finds and takes possession of  goods has obligation to take care of them for rightful ow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E68E1543-14A4-4D4C-894B-A20A55F2868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Who Has the Right to the Goods?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9488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DE8552F4-01D0-4621-8ABC-E47D6D7D0E2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ail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ilment - One person takes possession of and cares for goods of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ailor – person who delivers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ailee – person who takes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uty of bailee varies by nature of bail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17C4C766-E50A-417B-8D6C-72A808CF725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il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tuitous bailment - only one party receives a benefit (e.g., borrowing goods, stor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for benefit of bailee, duty imposed on bailee requires high standard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for benefit of bailor, duty imposed on bailee is l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e of goods also affects duty 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59990E5A-30CE-4149-8023-DF5DC2F4ECC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il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voluntary bail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Judge imposes reasonable perso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ilment for value - Of mutual benefit or by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uty of care imposed on bailee is that of reasonabl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industry standards or terms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culpatory clauses interpreted narrow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3:17:24Z</dcterms:created>
  <dc:creator>lori</dc:creator>
  <dc:description/>
  <dc:language>en-US</dc:language>
  <cp:lastModifiedBy>PearsonUser</cp:lastModifiedBy>
  <dcterms:modified xsi:type="dcterms:W3CDTF">2012-04-24T17:35:28Z</dcterms:modified>
  <cp:revision>170</cp:revision>
  <dc:subject/>
  <dc:title>Chapter One</dc:title>
</cp:coreProperties>
</file>